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10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63"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10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0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6"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67"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17A3-D9AF-4071-9170-4ACB588B4556}" type="slidenum">
              <a:rPr b="0" lang="en-AU"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8ED0-B3D6-491E-8044-31D2C9AF176F}"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DE28-62E5-4A6A-B642-317DF3A3AAC4}"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E4AF-2D97-4E65-85E3-DD6F8FFA33F6}"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3D9A-BA12-4744-AB0F-70D76BB4D1AA}"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7490-D471-47C8-B01D-3529D653782F}"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0BEFC-278C-4759-94CC-27316335A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3BDD2-4A92-478A-8A2C-4458A6C2D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DF97F1-56DF-40D6-A0F8-637F858DA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0605F5-BA4E-4AEB-8EE8-84FF609E7C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27EC2-49E9-4293-96A2-674BA1D63E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FA250-2C5E-4DF2-90A7-1E7D2545B3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6B1DA-EA5B-4E34-861E-61065F440F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50C11-5752-4FFC-BE0A-40F5D6F33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C0284A-5315-4C28-A26C-44E3A9DB1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0FCF9F-C37F-4F6B-9F33-E72E9A1D88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4CD431-885C-4466-B17C-9C2C612BD1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3F483-608E-4120-841D-859B7FE643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6C027-C13E-42E8-9CAF-9A7732148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30C245-E9A1-4F9F-9605-4844DDA8C4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ECE437-303A-4A4A-BFA0-DBE2DA8D10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5A8518-42ED-4CBE-B457-0D0DB3965C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8A5158-2059-4BDE-8C53-2411C817E1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08928E-AB71-4CEC-AEFC-3D1B1AEC5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B6AB70-F12B-4B90-B8A3-0FF606BC99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EFBDB0-B3A0-48D2-9D34-A54C31114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AEDCED-1971-43C2-8B17-82E48B73AE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084E60-2432-4306-BA25-026B2FF8B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95C531-C1CC-488C-AFEC-2537ABCE48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8EFB6-7BD1-4C47-8678-E678EF8D0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B66C31-DB73-40A2-B4A0-1B3FB10B83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A4D41E-A0A8-479F-A1AB-45B02EB3E1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D3D1F1-17BF-4CC1-83A8-BC2B9E27A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9C4BE2-D5E9-458F-906F-9BA8298A18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99FFA5-08FC-495B-B67C-C6AEED5676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E28D21-A491-4E68-B866-D2F5B74A62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CE35C-1440-4750-B558-CE3457E834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72E528-B073-41F7-B9C0-79AE67F1BC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C0B6CB-3407-48E2-B402-33E8BC3F46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4CF583-846C-4F60-B608-98AE221C15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F0B1D-94DF-4A88-9E4F-58513C379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8753C-6125-4B19-BBA4-0447DA996E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4F40D4-B790-4901-A4F6-1D72FB7694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C5B14A-8972-4716-9236-7B7EA32D86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4C57A2-C9C3-4E8F-A71D-F66D2987BA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E4753A-D22A-474D-BA19-BE08FD993F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61E5EF-93D5-444C-AD0E-A195168BB8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10C363-33E4-4EE1-8479-A755F427C5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12C2C6-EF22-4848-A878-0CF5AC4B69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19B0F8-5F8C-4A01-AA1D-C28CDFF0D3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7FFA26-45CD-4897-AED1-B4329193C0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5D93E-E806-4886-BC2F-5863E48C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85E9FD-7F20-413B-A430-FBFCB2984D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C6695E-6264-4FB0-AF0B-4B82858369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0288C2-3C3C-4214-AAE7-CE05EE12EC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6DBE57-864F-47A9-BFE7-5B974B2534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227832-2B65-442F-A8B4-FC3E5705F7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FC33E1-E2AB-4A20-97B5-24EBFF64F5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21AC2B-28E7-4B3D-BB24-43AEC41FB7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E4DFC7-E8C3-45D0-B9BE-5EB86DF7AD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8F9E2A-1B0E-401B-A324-C8A4DD3E4A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AFC0A4-E4CE-4A93-9B0E-C647A69542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1D962-3039-4E21-B341-A28CE5D8E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0F266B-B867-4302-BC91-9267428BC1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A02A04-8B75-4F2A-AA03-91AC81A3A5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C34474-5B15-4200-AAD4-808C30FE40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A99C93-5721-4A4F-8862-918FB0B438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401B35-C750-4344-A691-42DECECA6E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0BFF82-68C7-42E1-813A-BAE1DCCF22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DBB4B7-7AB3-4E09-8980-E53924D79E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1C4B70-701F-4A40-886D-8D523B9EE1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A8B43D-2D13-4D85-9892-E0948D9A20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09B3E7-BF4D-4982-9A2E-F45AB1C1FC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37DA6-4B07-4514-95DF-FA81A01F1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A70B72-2DE8-43A9-87B6-7C334FAFA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2CCD31-52B7-4E13-84DA-9530312780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923AA7-CEFC-4B34-A39D-23CA6945C0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B31CF4-09B8-4AFF-8A50-10601E2B29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72EF89-370C-4F11-8FF6-E658997863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7633E1-6D97-4C7A-968B-862F584E11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5033A4-D36E-4D52-803F-C56FFF7A33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6FB1E3-B1D1-4F46-A796-7E511857AD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C90AE3-72DA-40FC-95DE-47FE79B1C8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B44C08-ED67-4C5F-9B13-0F4FA581E12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1BF5B-55CA-4D89-B3B5-DA356FABE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FE83FD-8766-4C73-9AC0-84D2C50384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E8810C-AEEA-495A-A692-C8BD572C5A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46BBE9-D35A-48FA-977B-937E87742F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412482-F216-4365-BF80-59B0B46062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00FA7A-9449-4632-9E66-AF6BA383B8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FC7A10-2B95-4DA5-8902-884F6565F9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6636A0-36DC-4B01-82F2-E2F653DB68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734087-D6BC-456E-82D9-9DE6C42617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9B2325-3B0F-44DF-974D-972CBA5F65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2A4AF9B-B634-4612-8BE4-515CB4CF52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51B17-9882-4051-8293-AF976F386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782871C-0B2B-484D-8DCC-6C67033E2B8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8CAB447-50F5-440E-8C66-BB85FBA5099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BCA85C8-0E65-4966-805D-6FDC025ED0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1305632-43F4-43A0-989A-BBEE6593F0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12CB1C31-7114-4036-987C-984B781CD1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4984979D-70DA-4F3C-9CF1-01A2830BA1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43E2128-5C5C-4695-8C92-EB47FB1571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15F6B3C-1777-460B-8CFB-8D81D67971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51F5F22-EF1A-4E6A-86DD-BE8698A1D2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58849E2-EEEB-4F91-AC15-D98F3CD4C8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D461C-2ADA-4451-B24A-918D3F8A0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974F7D8D-5565-4163-9730-9DCF378677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B8BC6B84-B6C4-4BD9-BC5D-109988AE85F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A248A6B0-1304-4F5D-8093-93D705E9A90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AD32EE1-92EC-4C6E-A0AA-9C618C6C5C8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E43C31-564C-436E-9547-9C34F1ECF3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8EB120-65C7-4D29-BFCD-F89B728B81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3EBE4A3-07B5-4373-9AC4-23B0AC99F8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DAC91B-E0AE-4AC0-B629-8DF62A7306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3EB3F8-AA74-432C-9A29-DFF89C72BC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514367-33AE-4CEB-8CC3-52B6689857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007D-3D96-4B84-AD3C-529A42AF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4913-3B3B-4D65-BF52-25C73A032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B27A07-0806-419D-ADD6-35F8090360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C9EA0D-311E-47DB-BC5D-C66620BF5F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C436E4-681E-434C-8D25-AEDCADB224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06D5F0F-4912-4D8A-BED3-2935661A84F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C15DEA0-8920-45A5-9CCA-A5DC3B29EC2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943E71CD-6367-4BE5-898B-5AA30F4387B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7C2EC971-C88B-47FC-8735-57164888B52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E4847E6F-5069-45FE-8744-4131C51F5B4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F271E872-248C-48C8-9011-117727A9D0D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7FE1EF51-907B-4304-9DFB-B949613571E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BB92-8E05-4AA7-AEEF-5B16A5591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F7AC13BD-9A6C-4362-90BB-E245E1FAAEE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21282F55-2200-4A86-9CC1-3C6DB9C6C06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55693326-053F-4F52-AC31-F4576E44A71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2E538ADB-2499-4464-B5B0-C538B62DBB6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CA2392C3-9CC4-4E15-B10A-C0C6721FE9A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3EA6F52D-B1E6-4E3B-865D-8B9E2B2B6BD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4CD10B75-0114-4AF3-BCFD-D80A666B97B9}"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03D23A65-2FAE-4757-8363-B73002BA735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727B0E6A-1D34-4A4A-9BAE-84B7E51DDB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68FD2389-EAC3-4154-BF8C-4208EC11E49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EF337-B26E-4705-BDCF-DD8B784DE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579EECB5-4206-4324-B2AC-849AF40474A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8B705F51-FFDC-42D0-900A-2C2F5FFCEE9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02D4C500-359A-4E6C-A398-FB9BBEDB6E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C51762B3-715F-4B84-8C69-5AA9A32EC1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62849D4E-3138-4DF2-B838-44E9FCF113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D377D48C-8039-4A19-B3E6-A307199182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A079F052-E983-40C9-8789-501B848362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CE62552C-8944-49B7-87B2-2C0FBFB5DDE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C73B8A39-490B-4314-A8F1-9758B8D841A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847E2486-738B-4BE6-9144-A41127B8DDB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0A455-48BD-4A3E-A5A1-66BBE447E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DD25C19E-77F7-4F4A-BC1F-56F35ED9AA4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5A917C3D-43EE-45B6-8117-0387A79EF6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AD18B2C8-5B3F-423C-9594-EB53915E187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6C31229-8603-4F61-A349-E41843894F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118671A3-0D11-4868-95FD-D521852C43B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8E03D910-8A87-4BF6-B886-6AD9BED0EDB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4169C773-14ED-4908-BC29-BA12E4DA1F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621562F7-3FFA-4500-9F75-D88C960461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E57393A1-91AD-4218-ACA0-4BEF8D1E02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8BE90402-E881-4B38-B300-067FE3D356E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7558F-BA20-40A7-B747-31DA5105A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54FAED15-E6D6-482F-A401-AC82D255668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97BEE25-977B-4ACC-BBA6-B95336D9582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D2DCBA-CFC9-48D3-AEE6-246E6A237F5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48D100A-3E51-417B-8395-12500809371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A6F44CE-08DF-4F9A-BCB4-D5AD4524FE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56C8F9-0BAF-419D-B4F1-3E8FF08867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2092194-2E83-4240-A88D-9B460AD74D6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5880EC-04AA-4E74-A32C-A9581183BC0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33F48A-72C4-4721-A657-E7D9932C88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6E0303-0FF7-430D-B7EF-CD8EB8BD2B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84B6B3-7878-4F60-A61B-BE2D2550ED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897AEDC-ECCC-4133-AD92-C2E63AD8369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56D0C37-92EC-46B7-A4E8-C5C1114B90B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3DED140-C83F-4B96-9D98-44E86C3DAF8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AE5B35FA-6042-434D-AD44-6E3DF0F8EAF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D27C082A-18D7-4E29-854F-D3425A1AF4A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00FBA6EB-46F4-424B-83B6-721ED9BF09B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25F5FDF5-689B-4BB9-8EFA-37C7291636E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1752B96F-CFC3-44E4-BE71-CF73E00B8C6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9A43409A-4CEF-4F2F-B6CD-81C0A5F102E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78174222-6D8D-4677-99A6-BFDBF57A0A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5D6CB-5651-45BA-91C7-68D0F1CAA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84FF6263-E19E-4A30-AF39-E9CF47B007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38110D7A-FD0E-4E3A-BE41-0B736F73C1E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0547FFB4-6AF3-48CF-AD58-C3AD354DF1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8EAB9822-0392-4873-AFA5-B425C710AB2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119B9C0E-AD3F-4434-9A5B-5436D48D509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7BD14CF-7E8A-4A36-8282-5B033336BDD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A239A9F-1E9F-4577-9062-AA08E39C32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A79F4C-933B-4666-A7B4-550C080DAAC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771AA1E-0B12-4240-BACB-4E37324EBA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3B6B339-7EB8-4D91-95F2-4A670BB7D9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7938D-174A-45B0-B336-46550982C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DAC7B46-E148-4D8C-990A-3099476A71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D0AC81-8C26-4531-95A0-B0AEC2793C1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CC2A5DB-E92C-4A9C-B63E-DE97B93B76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5C6AB1-285C-4126-A6FB-716C5D92B7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E264CA8-EE36-4FDA-AD2B-7ECD9B50A9A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876CAE2-7DDD-4982-9839-C2F3F034F64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5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851AC61-1315-4D50-9951-30D67DEBA47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793B3-37C8-4D0D-AA2B-4848D09EF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9191A-E567-4333-A01A-B0D61A392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4E12-9124-4599-AC50-49E17B47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33CED7-BE09-4E9E-94D1-65F4E1BDD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498B8-0774-43FD-8BC3-B94B40396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4AFE6-49A1-4F71-AD42-EAF98C693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CF118-1A95-44F3-9235-1641F2CB8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7E49A-574A-495B-8B48-7E0992B46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368AA4-A047-4A1E-851E-A50D8BD1B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1A29F-5F50-4962-8B45-DC4F3DB4D9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682D73-EC31-4350-B932-E152270DB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1F1C2-5818-4256-90C5-6F5877568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34F9F-34FE-421F-A1B6-0FD089A7F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C3A9-9D3F-40BA-9712-BD63180F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B9743-243D-4433-8003-56413DDE9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0B99C-2B71-428D-9AF4-609589FA8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A6A25-F570-46DC-87EC-E2297C283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C79D8-437A-423D-93B9-3C0826569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69452-5E5A-4927-B684-1513DE383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40850-76F1-4AFB-9477-F186FF9FD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89DCF-4096-459A-A151-AECE2D67C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056CD4-B6C3-4C20-95A8-9C5D09BF1E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86131-F48F-461E-9D10-9A4BB0DEE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C26E0B-16A6-4084-AFDF-392F2F3AAC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3603-D917-46E8-8E0F-1AD93CE7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BA42E-4A3D-4964-8054-6FB2B6EF99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389FD-6CA9-496F-AECF-BB28CBEE3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88877-A9A0-41E1-B8BF-BDD34E3AE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170E0-8AA3-497A-B005-82E5571BF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DA81C-1811-4DC2-84D7-1B0338F56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22115-1886-4762-8CD4-ACB8ECEB6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72CDB-1DF7-48E4-9B4F-BB6398E63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21BA2-10D7-42B5-B3AC-A9D8195AD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3847F-1798-46CC-B9A2-78834A130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0BF2F4-3984-40BE-8A21-163EEE508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487A-C266-4FED-ADC7-8AB3372B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A2420F-56A1-431B-91A0-DBD91B8402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AC2F9-52C8-4552-895C-10B487D8ED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3DA82-B1F5-42AE-A843-CA5AB0C1F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668DC7-A48C-4079-B496-D009AAC24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73032-122F-4A93-B29E-4AFE77A7F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C08AF-5271-4002-933D-3FF421447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E1404-B638-407A-BDC4-C54F1A87D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705BE-D2B0-44F8-B2BE-A1087C06B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276D0-4BA7-4111-AD7D-7D46CBC8E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19F71-964B-4773-9F9B-0A957BFE4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6FED2-0C8F-4053-A099-E2C139D4F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46FDB9-A8A8-4096-8395-9845752D4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41178C-D5DF-4A77-B690-B28AC6F634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45BEFD-7A76-496A-9B12-4107A949D4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936DA4-6A6C-4A0C-AAF7-B9448B0A8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34992D-0E65-474A-8687-F9268793A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C8D79-3750-4FBB-A11B-C66347D15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82966-3A8A-45E5-9C31-4F280A53E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4A117-2288-4B37-90AF-DBDCE7248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2D289-6BEC-4036-96F6-1526EFA7D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CECF8-CEC5-433A-97CA-9B0A696FD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EB75-FED9-446A-8166-DAF8C3EA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CC4C5-D009-416B-98F3-154CBBAB1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D42422-28C0-4C01-BAA9-2C548A79B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57F7E2-2CC9-46B8-8E89-C09D466F1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BAE73-3C72-46C5-AB2C-A8C2CC1913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9846D5-0E05-41B3-9D9E-C1AAF6AFD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A4F698-2D76-4CA4-9EC5-E8E7803744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30E8B-A9D3-4D43-AAAD-8B5E5B7EDC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FF75A-37DA-4DE0-BB66-8C6FDED87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C3C79-1B65-4AD9-A3F7-2A8410FEE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E0A33-EA5C-4F58-AAB5-874F7C3E4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8EDB-6215-4BC9-9E60-A1D01E97A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D0A36-338B-45B5-ABA7-09312EFAD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4D9C5-BECC-4504-AF65-2924581D2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EC157-AED7-41EA-AD16-471A75F53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E8DC3-9770-49CF-8589-08DA1F6F6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7F9BC8-161D-43E4-845F-D495EA4D87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5095F-3BE8-414C-A333-4782A3715B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38A97B-9E66-4B6C-8E2B-032546A662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D1BCFE-A469-48C9-AEF8-6D8D4231F7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9DBF18-E29F-4D79-8224-80EA684DC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F4816-4AC2-4FF2-A19F-3C14835BDD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CC68-0DCE-46CD-90B8-E21C6A66867C}" type="slidenum">
              <a:rPr b="0" lang="en-AU"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D3E5-B714-458C-8C7F-2B0CD63ED20B}"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A471-4899-48B7-9F3F-B6246AB1ECF7}"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A03B-ED57-4AF5-97AB-54077601A9A7}"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C7FC-CC57-421D-A8B4-CC611ECADDA2}"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70D6-6811-4733-98E7-9683BDB287CF}"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F5BE-5A7E-4305-9408-54554AEA2902}"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Book Antiqua"/>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Book Antiqua"/>
            </a:endParaRPr>
          </a:p>
        </p:txBody>
      </p:sp>
      <p:sp>
        <p:nvSpPr>
          <p:cNvPr id="692"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5A1D-C604-436A-ACF3-1C17F4AFD714}"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Book Antiqua"/>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563E-6494-40DB-A2B7-1A672FF93EE4}"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DD22-4C53-41AB-9C37-174ACB2DFCAF}"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2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21" name="PlaceHolder 3"/>
          <p:cNvSpPr>
            <a:spLocks noGrp="1"/>
          </p:cNvSpPr>
          <p:nvPr>
            <p:ph type="dt" idx="55"/>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822" name="PlaceHolder 4"/>
          <p:cNvSpPr>
            <a:spLocks noGrp="1"/>
          </p:cNvSpPr>
          <p:nvPr>
            <p:ph type="sldNum" idx="56"/>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A459-E462-4C80-BE64-26D6B8F5B90A}"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823" name="PlaceHolder 5"/>
          <p:cNvSpPr>
            <a:spLocks noGrp="1"/>
          </p:cNvSpPr>
          <p:nvPr>
            <p:ph type="ftr" idx="5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Book Antiqua"/>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3005-6D37-4810-A378-128572A0B5B1}" type="slidenum">
              <a:rPr b="0" lang="en-AU" sz="1200" spc="-1" strike="noStrike">
                <a:solidFill>
                  <a:srgbClr val="045c75"/>
                </a:solidFill>
                <a:latin typeface="Constantia"/>
              </a:rPr>
              <a:t>&lt;number&gt;</a:t>
            </a:fld>
            <a:endParaRPr b="0" lang="en-US" sz="1200" spc="-1" strike="noStrike">
              <a:solidFill>
                <a:srgbClr val="000000"/>
              </a:solidFill>
              <a:latin typeface="Book Antiqua"/>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6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62" name="PlaceHolder 3"/>
          <p:cNvSpPr>
            <a:spLocks noGrp="1"/>
          </p:cNvSpPr>
          <p:nvPr>
            <p:ph type="dt" idx="58"/>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863" name="PlaceHolder 4"/>
          <p:cNvSpPr>
            <a:spLocks noGrp="1"/>
          </p:cNvSpPr>
          <p:nvPr>
            <p:ph type="sldNum" idx="5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9F5B-849C-4F23-ADBD-42035EF25CE8}"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864" name="PlaceHolder 5"/>
          <p:cNvSpPr>
            <a:spLocks noGrp="1"/>
          </p:cNvSpPr>
          <p:nvPr>
            <p:ph type="ftr" idx="6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2"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3"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4"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5"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6"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7"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8"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9"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0"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1"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1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14" name="PlaceHolder 3"/>
          <p:cNvSpPr>
            <a:spLocks noGrp="1"/>
          </p:cNvSpPr>
          <p:nvPr>
            <p:ph type="dt" idx="61"/>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915" name="PlaceHolder 4"/>
          <p:cNvSpPr>
            <a:spLocks noGrp="1"/>
          </p:cNvSpPr>
          <p:nvPr>
            <p:ph type="ftr" idx="6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6" name="PlaceHolder 5"/>
          <p:cNvSpPr>
            <a:spLocks noGrp="1"/>
          </p:cNvSpPr>
          <p:nvPr>
            <p:ph type="sldNum" idx="63"/>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E7B6-9C71-451E-8304-D549F9EC1AFB}"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6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68" name="PlaceHolder 3"/>
          <p:cNvSpPr>
            <a:spLocks noGrp="1"/>
          </p:cNvSpPr>
          <p:nvPr>
            <p:ph type="dt" idx="6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969" name="PlaceHolder 4"/>
          <p:cNvSpPr>
            <a:spLocks noGrp="1"/>
          </p:cNvSpPr>
          <p:nvPr>
            <p:ph type="sldNum" idx="6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5317-7629-4F49-A194-A1692D1AA582}"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
        <p:nvSpPr>
          <p:cNvPr id="970" name="PlaceHolder 5"/>
          <p:cNvSpPr>
            <a:spLocks noGrp="1"/>
          </p:cNvSpPr>
          <p:nvPr>
            <p:ph type="ftr" idx="6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02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22" name="PlaceHolder 3"/>
          <p:cNvSpPr>
            <a:spLocks noGrp="1"/>
          </p:cNvSpPr>
          <p:nvPr>
            <p:ph type="dt" idx="67"/>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1023" name="PlaceHolder 4"/>
          <p:cNvSpPr>
            <a:spLocks noGrp="1"/>
          </p:cNvSpPr>
          <p:nvPr>
            <p:ph type="ftr" idx="6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24" name="PlaceHolder 5"/>
          <p:cNvSpPr>
            <a:spLocks noGrp="1"/>
          </p:cNvSpPr>
          <p:nvPr>
            <p:ph type="sldNum" idx="6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F384-C3D4-4CD2-A95C-E03E0BF625F5}"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CF44-BA43-49D8-BB12-88771400BE96}"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2476-97CB-4DA0-9167-98E938B57F29}"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677A-1908-4ADA-9957-8CE33215C1C8}"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5977-DDC9-4367-B40D-AA779B42F2E5}" type="slidenum">
              <a:rPr b="0" lang="en-AU"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7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81" name="Freeform 12"/>
            <p:cNvGrpSpPr/>
            <p:nvPr/>
          </p:nvGrpSpPr>
          <p:grpSpPr>
            <a:xfrm>
              <a:off x="-19080" y="248040"/>
              <a:ext cx="9181080" cy="565200"/>
              <a:chOff x="-19080" y="248040"/>
              <a:chExt cx="9181080" cy="565200"/>
            </a:xfrm>
          </p:grpSpPr>
          <p:pic>
            <p:nvPicPr>
              <p:cNvPr id="282" name="Freeform 12" descr=""/>
              <p:cNvPicPr/>
              <p:nvPr/>
            </p:nvPicPr>
            <p:blipFill>
              <a:blip r:embed="rId4"/>
              <a:stretch/>
            </p:blipFill>
            <p:spPr>
              <a:xfrm>
                <a:off x="-3240" y="248040"/>
                <a:ext cx="9165240" cy="565200"/>
              </a:xfrm>
              <a:prstGeom prst="rect">
                <a:avLst/>
              </a:prstGeom>
              <a:ln w="0">
                <a:noFill/>
              </a:ln>
            </p:spPr>
          </p:pic>
          <p:sp>
            <p:nvSpPr>
              <p:cNvPr id="28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Book Antiqua"/>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C2BF-F889-4A6C-BCB8-8B4699A55284}" type="slidenum">
              <a:rPr b="0" lang="en-AU" sz="1200" spc="-1" strike="noStrike">
                <a:solidFill>
                  <a:srgbClr val="d1eaee"/>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2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31" name="Freeform 12"/>
            <p:cNvGrpSpPr/>
            <p:nvPr/>
          </p:nvGrpSpPr>
          <p:grpSpPr>
            <a:xfrm>
              <a:off x="-19080" y="248040"/>
              <a:ext cx="9181080" cy="565200"/>
              <a:chOff x="-19080" y="248040"/>
              <a:chExt cx="9181080" cy="565200"/>
            </a:xfrm>
          </p:grpSpPr>
          <p:pic>
            <p:nvPicPr>
              <p:cNvPr id="332" name="Freeform 12" descr=""/>
              <p:cNvPicPr/>
              <p:nvPr/>
            </p:nvPicPr>
            <p:blipFill>
              <a:blip r:embed="rId4"/>
              <a:stretch/>
            </p:blipFill>
            <p:spPr>
              <a:xfrm>
                <a:off x="-3240" y="248040"/>
                <a:ext cx="9165240" cy="565200"/>
              </a:xfrm>
              <a:prstGeom prst="rect">
                <a:avLst/>
              </a:prstGeom>
              <a:ln w="0">
                <a:noFill/>
              </a:ln>
            </p:spPr>
          </p:pic>
          <p:sp>
            <p:nvSpPr>
              <p:cNvPr id="33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Book Antiqua"/>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771A-BB27-4D91-AB9B-C25B40FC489F}" type="slidenum">
              <a:rPr b="0" lang="en-AU" sz="1200" spc="-1" strike="noStrike">
                <a:solidFill>
                  <a:srgbClr val="d1eaee"/>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Book Antiqua"/>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6786-97F2-4E69-8B0C-899CE683993F}" type="slidenum">
              <a:rPr b="0" lang="en-AU" sz="1200" spc="-1" strike="noStrike">
                <a:solidFill>
                  <a:srgbClr val="045c75"/>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Title 1" descr=""/>
          <p:cNvPicPr/>
          <p:nvPr/>
        </p:nvPicPr>
        <p:blipFill>
          <a:blip r:embed="rId1"/>
          <a:stretch/>
        </p:blipFill>
        <p:spPr>
          <a:xfrm>
            <a:off x="212760" y="1365120"/>
            <a:ext cx="8980560" cy="2036880"/>
          </a:xfrm>
          <a:prstGeom prst="rect">
            <a:avLst/>
          </a:prstGeom>
          <a:ln w="0">
            <a:noFill/>
          </a:ln>
        </p:spPr>
      </p:pic>
      <p:sp>
        <p:nvSpPr>
          <p:cNvPr id="1069"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1070"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1071"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1072" name="Picture 5" descr="05253"/>
          <p:cNvPicPr/>
          <p:nvPr/>
        </p:nvPicPr>
        <p:blipFill>
          <a:blip r:embed="rId5"/>
          <a:stretch/>
        </p:blipFill>
        <p:spPr>
          <a:xfrm>
            <a:off x="214200" y="3400560"/>
            <a:ext cx="2305080" cy="3457440"/>
          </a:xfrm>
          <a:prstGeom prst="rect">
            <a:avLst/>
          </a:prstGeom>
          <a:ln w="0">
            <a:noFill/>
          </a:ln>
        </p:spPr>
      </p:pic>
      <p:pic>
        <p:nvPicPr>
          <p:cNvPr id="1073" name="Picture 7" descr="Phoronopsis_viridis1"/>
          <p:cNvPicPr/>
          <p:nvPr/>
        </p:nvPicPr>
        <p:blipFill>
          <a:blip r:embed="rId6"/>
          <a:stretch/>
        </p:blipFill>
        <p:spPr>
          <a:xfrm>
            <a:off x="4071960" y="428760"/>
            <a:ext cx="3414600" cy="1157040"/>
          </a:xfrm>
          <a:prstGeom prst="rect">
            <a:avLst/>
          </a:prstGeom>
          <a:ln w="0">
            <a:noFill/>
          </a:ln>
        </p:spPr>
      </p:pic>
      <p:pic>
        <p:nvPicPr>
          <p:cNvPr id="1074" name="Picture 8" descr="misophiur"/>
          <p:cNvPicPr/>
          <p:nvPr/>
        </p:nvPicPr>
        <p:blipFill>
          <a:blip r:embed="rId7"/>
          <a:stretch/>
        </p:blipFill>
        <p:spPr>
          <a:xfrm>
            <a:off x="3071880" y="4500720"/>
            <a:ext cx="3124080" cy="1942920"/>
          </a:xfrm>
          <a:prstGeom prst="rect">
            <a:avLst/>
          </a:prstGeom>
          <a:ln w="0">
            <a:noFill/>
          </a:ln>
        </p:spPr>
      </p:pic>
      <p:pic>
        <p:nvPicPr>
          <p:cNvPr id="1075" name="Picture 8" descr="angelfish.gif"/>
          <p:cNvPicPr/>
          <p:nvPr/>
        </p:nvPicPr>
        <p:blipFill>
          <a:blip r:embed="rId8"/>
          <a:stretch/>
        </p:blipFill>
        <p:spPr>
          <a:xfrm>
            <a:off x="7643880" y="571680"/>
            <a:ext cx="952560" cy="628560"/>
          </a:xfrm>
          <a:prstGeom prst="rect">
            <a:avLst/>
          </a:prstGeom>
          <a:ln w="0">
            <a:noFill/>
          </a:ln>
        </p:spPr>
      </p:pic>
      <p:pic>
        <p:nvPicPr>
          <p:cNvPr id="1076" name="Picture 9" descr="angelfish.gif"/>
          <p:cNvPicPr/>
          <p:nvPr/>
        </p:nvPicPr>
        <p:blipFill>
          <a:blip r:embed="rId9"/>
          <a:stretch/>
        </p:blipFill>
        <p:spPr>
          <a:xfrm>
            <a:off x="4929120" y="5643720"/>
            <a:ext cx="952560" cy="628560"/>
          </a:xfrm>
          <a:prstGeom prst="rect">
            <a:avLst/>
          </a:prstGeom>
          <a:ln w="0">
            <a:noFill/>
          </a:ln>
        </p:spPr>
      </p:pic>
      <p:pic>
        <p:nvPicPr>
          <p:cNvPr id="1077"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69">
                                            <p:txEl>
                                              <p:pRg st="0" end="0"/>
                                            </p:txEl>
                                          </p:spTgt>
                                        </p:tgtEl>
                                        <p:attrNameLst>
                                          <p:attrName>style.visibility</p:attrName>
                                        </p:attrNameLst>
                                      </p:cBhvr>
                                      <p:to>
                                        <p:strVal val="visible"/>
                                      </p:to>
                                    </p:set>
                                    <p:animEffect filter="wipe(down)" transition="in">
                                      <p:cBhvr additive="repl">
                                        <p:cTn id="7" dur="500"/>
                                        <p:tgtEl>
                                          <p:spTgt spid="10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9" name="Picture 5" descr="pacscallop"/>
          <p:cNvPicPr/>
          <p:nvPr/>
        </p:nvPicPr>
        <p:blipFill>
          <a:blip r:embed="rId1"/>
          <a:stretch/>
        </p:blipFill>
        <p:spPr>
          <a:xfrm>
            <a:off x="5562720" y="3657600"/>
            <a:ext cx="3200400" cy="2279520"/>
          </a:xfrm>
          <a:prstGeom prst="rect">
            <a:avLst/>
          </a:prstGeom>
          <a:ln w="0">
            <a:noFill/>
          </a:ln>
        </p:spPr>
      </p:pic>
      <p:pic>
        <p:nvPicPr>
          <p:cNvPr id="1080" name="Picture 4" descr="kelp3_100"/>
          <p:cNvPicPr/>
          <p:nvPr/>
        </p:nvPicPr>
        <p:blipFill>
          <a:blip r:embed="rId2"/>
          <a:stretch/>
        </p:blipFill>
        <p:spPr>
          <a:xfrm>
            <a:off x="228600" y="1143000"/>
            <a:ext cx="2550960" cy="3840120"/>
          </a:xfrm>
          <a:prstGeom prst="rect">
            <a:avLst/>
          </a:prstGeom>
          <a:ln w="0">
            <a:noFill/>
          </a:ln>
        </p:spPr>
      </p:pic>
      <p:pic>
        <p:nvPicPr>
          <p:cNvPr id="1081" name="Picture 5" descr="coralline_algae"/>
          <p:cNvPicPr/>
          <p:nvPr/>
        </p:nvPicPr>
        <p:blipFill>
          <a:blip r:embed="rId3"/>
          <a:stretch/>
        </p:blipFill>
        <p:spPr>
          <a:xfrm>
            <a:off x="3929040" y="214200"/>
            <a:ext cx="3276720" cy="2098800"/>
          </a:xfrm>
          <a:prstGeom prst="rect">
            <a:avLst/>
          </a:prstGeom>
          <a:ln w="0">
            <a:noFill/>
          </a:ln>
        </p:spPr>
      </p:pic>
      <p:sp>
        <p:nvSpPr>
          <p:cNvPr id="1082"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Book Antiqua"/>
            </a:endParaRPr>
          </a:p>
        </p:txBody>
      </p:sp>
      <p:sp>
        <p:nvSpPr>
          <p:cNvPr id="1083"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2">
                                            <p:txEl>
                                              <p:pRg st="0" end="0"/>
                                            </p:txEl>
                                          </p:spTgt>
                                        </p:tgtEl>
                                        <p:attrNameLst>
                                          <p:attrName>style.visibility</p:attrName>
                                        </p:attrNameLst>
                                      </p:cBhvr>
                                      <p:to>
                                        <p:strVal val="visible"/>
                                      </p:to>
                                    </p:set>
                                    <p:animEffect filter="wipe(down)" transition="in">
                                      <p:cBhvr additive="repl">
                                        <p:cTn id="14" dur="500"/>
                                        <p:tgtEl>
                                          <p:spTgt spid="108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9" dur="500"/>
                                        <p:tgtEl>
                                          <p:spTgt spid="10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4" name="Picture 3" descr="tidepool3"/>
          <p:cNvPicPr/>
          <p:nvPr/>
        </p:nvPicPr>
        <p:blipFill>
          <a:blip r:embed="rId1"/>
          <a:stretch/>
        </p:blipFill>
        <p:spPr>
          <a:xfrm>
            <a:off x="4429080" y="2643120"/>
            <a:ext cx="4038480" cy="3848040"/>
          </a:xfrm>
          <a:prstGeom prst="rect">
            <a:avLst/>
          </a:prstGeom>
          <a:ln w="0">
            <a:noFill/>
          </a:ln>
        </p:spPr>
      </p:pic>
      <p:sp>
        <p:nvSpPr>
          <p:cNvPr id="1085"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Book Antiqua"/>
            </a:endParaRPr>
          </a:p>
        </p:txBody>
      </p:sp>
      <p:sp>
        <p:nvSpPr>
          <p:cNvPr id="1086"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Book Antiqua"/>
            </a:endParaRPr>
          </a:p>
        </p:txBody>
      </p:sp>
      <p:sp>
        <p:nvSpPr>
          <p:cNvPr id="1087"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Book Antiqua"/>
            </a:endParaRPr>
          </a:p>
        </p:txBody>
      </p:sp>
      <p:pic>
        <p:nvPicPr>
          <p:cNvPr id="1088" name="Picture 10" descr="big_fish_swimming_md_wht.gif"/>
          <p:cNvPicPr/>
          <p:nvPr/>
        </p:nvPicPr>
        <p:blipFill>
          <a:blip r:embed="rId2"/>
          <a:stretch/>
        </p:blipFill>
        <p:spPr>
          <a:xfrm>
            <a:off x="7215120" y="1071720"/>
            <a:ext cx="895320" cy="838080"/>
          </a:xfrm>
          <a:prstGeom prst="rect">
            <a:avLst/>
          </a:prstGeom>
          <a:ln w="0">
            <a:noFill/>
          </a:ln>
        </p:spPr>
      </p:pic>
      <p:pic>
        <p:nvPicPr>
          <p:cNvPr id="1089" name="Picture 11" descr="big_fish_swimming_md_wht.gif"/>
          <p:cNvPicPr/>
          <p:nvPr/>
        </p:nvPicPr>
        <p:blipFill>
          <a:blip r:embed="rId3"/>
          <a:stretch/>
        </p:blipFill>
        <p:spPr>
          <a:xfrm>
            <a:off x="6357960" y="1285920"/>
            <a:ext cx="895320" cy="838080"/>
          </a:xfrm>
          <a:prstGeom prst="rect">
            <a:avLst/>
          </a:prstGeom>
          <a:ln w="0">
            <a:noFill/>
          </a:ln>
        </p:spPr>
      </p:pic>
      <p:pic>
        <p:nvPicPr>
          <p:cNvPr id="1090" name="Picture 12" descr="big_fish_swimming_md_wht.gif"/>
          <p:cNvPicPr/>
          <p:nvPr/>
        </p:nvPicPr>
        <p:blipFill>
          <a:blip r:embed="rId4"/>
          <a:stretch/>
        </p:blipFill>
        <p:spPr>
          <a:xfrm>
            <a:off x="8072280" y="928800"/>
            <a:ext cx="895680" cy="838080"/>
          </a:xfrm>
          <a:prstGeom prst="rect">
            <a:avLst/>
          </a:prstGeom>
          <a:ln w="0">
            <a:noFill/>
          </a:ln>
        </p:spPr>
      </p:pic>
      <p:pic>
        <p:nvPicPr>
          <p:cNvPr id="1091" name="Picture 13" descr="big_fish_swimming_md_wht.gif"/>
          <p:cNvPicPr/>
          <p:nvPr/>
        </p:nvPicPr>
        <p:blipFill>
          <a:blip r:embed="rId5"/>
          <a:stretch/>
        </p:blipFill>
        <p:spPr>
          <a:xfrm>
            <a:off x="8072280" y="1928880"/>
            <a:ext cx="895680" cy="838080"/>
          </a:xfrm>
          <a:prstGeom prst="rect">
            <a:avLst/>
          </a:prstGeom>
          <a:ln w="0">
            <a:noFill/>
          </a:ln>
        </p:spPr>
      </p:pic>
      <p:pic>
        <p:nvPicPr>
          <p:cNvPr id="1092"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89"/>
                                        </p:tgtEl>
                                        <p:attrNameLst>
                                          <p:attrName>style.visibility</p:attrName>
                                        </p:attrNameLst>
                                      </p:cBhvr>
                                      <p:to>
                                        <p:strVal val="visible"/>
                                      </p:to>
                                    </p:set>
                                    <p:anim calcmode="lin" valueType="num">
                                      <p:cBhvr additive="base">
                                        <p:cTn id="26" dur="500" fill="hold"/>
                                        <p:tgtEl>
                                          <p:spTgt spid="1089"/>
                                        </p:tgtEl>
                                        <p:attrNameLst>
                                          <p:attrName>ppt_x</p:attrName>
                                        </p:attrNameLst>
                                      </p:cBhvr>
                                      <p:tavLst>
                                        <p:tav tm="0">
                                          <p:val>
                                            <p:strVal val="#ppt_x"/>
                                          </p:val>
                                        </p:tav>
                                        <p:tav tm="100000">
                                          <p:val>
                                            <p:strVal val="#ppt_x"/>
                                          </p:val>
                                        </p:tav>
                                      </p:tavLst>
                                    </p:anim>
                                    <p:anim calcmode="lin" valueType="num">
                                      <p:cBhvr additive="base">
                                        <p:cTn id="27" dur="500" fill="hold"/>
                                        <p:tgtEl>
                                          <p:spTgt spid="1089"/>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88"/>
                                        </p:tgtEl>
                                        <p:attrNameLst>
                                          <p:attrName>style.visibility</p:attrName>
                                        </p:attrNameLst>
                                      </p:cBhvr>
                                      <p:to>
                                        <p:strVal val="visible"/>
                                      </p:to>
                                    </p:set>
                                    <p:anim calcmode="lin" valueType="num">
                                      <p:cBhvr additive="base">
                                        <p:cTn id="32" dur="500" fill="hold"/>
                                        <p:tgtEl>
                                          <p:spTgt spid="1088"/>
                                        </p:tgtEl>
                                        <p:attrNameLst>
                                          <p:attrName>ppt_x</p:attrName>
                                        </p:attrNameLst>
                                      </p:cBhvr>
                                      <p:tavLst>
                                        <p:tav tm="0">
                                          <p:val>
                                            <p:strVal val="#ppt_x"/>
                                          </p:val>
                                        </p:tav>
                                        <p:tav tm="100000">
                                          <p:val>
                                            <p:strVal val="#ppt_x"/>
                                          </p:val>
                                        </p:tav>
                                      </p:tavLst>
                                    </p:anim>
                                    <p:anim calcmode="lin" valueType="num">
                                      <p:cBhvr additive="base">
                                        <p:cTn id="33" dur="500" fill="hold"/>
                                        <p:tgtEl>
                                          <p:spTgt spid="108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92"/>
                                        </p:tgtEl>
                                        <p:attrNameLst>
                                          <p:attrName>style.visibility</p:attrName>
                                        </p:attrNameLst>
                                      </p:cBhvr>
                                      <p:to>
                                        <p:strVal val="visible"/>
                                      </p:to>
                                    </p:set>
                                    <p:anim calcmode="lin" valueType="num">
                                      <p:cBhvr additive="base">
                                        <p:cTn id="38" dur="500" fill="hold"/>
                                        <p:tgtEl>
                                          <p:spTgt spid="1092"/>
                                        </p:tgtEl>
                                        <p:attrNameLst>
                                          <p:attrName>ppt_x</p:attrName>
                                        </p:attrNameLst>
                                      </p:cBhvr>
                                      <p:tavLst>
                                        <p:tav tm="0">
                                          <p:val>
                                            <p:strVal val="#ppt_x"/>
                                          </p:val>
                                        </p:tav>
                                        <p:tav tm="100000">
                                          <p:val>
                                            <p:strVal val="#ppt_x"/>
                                          </p:val>
                                        </p:tav>
                                      </p:tavLst>
                                    </p:anim>
                                    <p:anim calcmode="lin" valueType="num">
                                      <p:cBhvr additive="base">
                                        <p:cTn id="39" dur="500" fill="hold"/>
                                        <p:tgtEl>
                                          <p:spTgt spid="109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90"/>
                                        </p:tgtEl>
                                        <p:attrNameLst>
                                          <p:attrName>style.visibility</p:attrName>
                                        </p:attrNameLst>
                                      </p:cBhvr>
                                      <p:to>
                                        <p:strVal val="visible"/>
                                      </p:to>
                                    </p:set>
                                    <p:anim calcmode="lin" valueType="num">
                                      <p:cBhvr additive="base">
                                        <p:cTn id="44" dur="500" fill="hold"/>
                                        <p:tgtEl>
                                          <p:spTgt spid="1090"/>
                                        </p:tgtEl>
                                        <p:attrNameLst>
                                          <p:attrName>ppt_x</p:attrName>
                                        </p:attrNameLst>
                                      </p:cBhvr>
                                      <p:tavLst>
                                        <p:tav tm="0">
                                          <p:val>
                                            <p:strVal val="#ppt_x"/>
                                          </p:val>
                                        </p:tav>
                                        <p:tav tm="100000">
                                          <p:val>
                                            <p:strVal val="#ppt_x"/>
                                          </p:val>
                                        </p:tav>
                                      </p:tavLst>
                                    </p:anim>
                                    <p:anim calcmode="lin" valueType="num">
                                      <p:cBhvr additive="base">
                                        <p:cTn id="45" dur="500" fill="hold"/>
                                        <p:tgtEl>
                                          <p:spTgt spid="109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91"/>
                                        </p:tgtEl>
                                        <p:attrNameLst>
                                          <p:attrName>style.visibility</p:attrName>
                                        </p:attrNameLst>
                                      </p:cBhvr>
                                      <p:to>
                                        <p:strVal val="visible"/>
                                      </p:to>
                                    </p:set>
                                    <p:anim calcmode="lin" valueType="num">
                                      <p:cBhvr additive="base">
                                        <p:cTn id="50" dur="500" fill="hold"/>
                                        <p:tgtEl>
                                          <p:spTgt spid="1091"/>
                                        </p:tgtEl>
                                        <p:attrNameLst>
                                          <p:attrName>ppt_x</p:attrName>
                                        </p:attrNameLst>
                                      </p:cBhvr>
                                      <p:tavLst>
                                        <p:tav tm="0">
                                          <p:val>
                                            <p:strVal val="#ppt_x"/>
                                          </p:val>
                                        </p:tav>
                                        <p:tav tm="100000">
                                          <p:val>
                                            <p:strVal val="#ppt_x"/>
                                          </p:val>
                                        </p:tav>
                                      </p:tavLst>
                                    </p:anim>
                                    <p:anim calcmode="lin" valueType="num">
                                      <p:cBhvr additive="base">
                                        <p:cTn id="51" dur="500" fill="hold"/>
                                        <p:tgtEl>
                                          <p:spTgt spid="1091"/>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86">
                                            <p:txEl>
                                              <p:pRg st="0" end="0"/>
                                            </p:txEl>
                                          </p:spTgt>
                                        </p:tgtEl>
                                        <p:attrNameLst>
                                          <p:attrName>style.visibility</p:attrName>
                                        </p:attrNameLst>
                                      </p:cBhvr>
                                      <p:to>
                                        <p:strVal val="visible"/>
                                      </p:to>
                                    </p:set>
                                    <p:animEffect filter="wipe(down)" transition="in">
                                      <p:cBhvr additive="repl">
                                        <p:cTn id="56" dur="500"/>
                                        <p:tgtEl>
                                          <p:spTgt spid="108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86">
                                            <p:txEl>
                                              <p:pRg st="1" end="1"/>
                                            </p:txEl>
                                          </p:spTgt>
                                        </p:tgtEl>
                                        <p:attrNameLst>
                                          <p:attrName>style.visibility</p:attrName>
                                        </p:attrNameLst>
                                      </p:cBhvr>
                                      <p:to>
                                        <p:strVal val="visible"/>
                                      </p:to>
                                    </p:set>
                                    <p:animEffect filter="wipe(down)" transition="in">
                                      <p:cBhvr additive="repl">
                                        <p:cTn id="61" dur="500"/>
                                        <p:tgtEl>
                                          <p:spTgt spid="1086">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86">
                                            <p:txEl>
                                              <p:pRg st="2" end="2"/>
                                            </p:txEl>
                                          </p:spTgt>
                                        </p:tgtEl>
                                        <p:attrNameLst>
                                          <p:attrName>style.visibility</p:attrName>
                                        </p:attrNameLst>
                                      </p:cBhvr>
                                      <p:to>
                                        <p:strVal val="visible"/>
                                      </p:to>
                                    </p:set>
                                    <p:animEffect filter="wipe(down)" transition="in">
                                      <p:cBhvr additive="repl">
                                        <p:cTn id="64" dur="500"/>
                                        <p:tgtEl>
                                          <p:spTgt spid="108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86">
                                            <p:txEl>
                                              <p:pRg st="3" end="3"/>
                                            </p:txEl>
                                          </p:spTgt>
                                        </p:tgtEl>
                                        <p:attrNameLst>
                                          <p:attrName>style.visibility</p:attrName>
                                        </p:attrNameLst>
                                      </p:cBhvr>
                                      <p:to>
                                        <p:strVal val="visible"/>
                                      </p:to>
                                    </p:set>
                                    <p:animEffect filter="wipe(down)" transition="in">
                                      <p:cBhvr additive="repl">
                                        <p:cTn id="69" dur="500"/>
                                        <p:tgtEl>
                                          <p:spTgt spid="108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74" dur="500"/>
                                        <p:tgtEl>
                                          <p:spTgt spid="108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87">
                                            <p:txEl>
                                              <p:pRg st="2" end="2"/>
                                            </p:txEl>
                                          </p:spTgt>
                                        </p:tgtEl>
                                        <p:attrNameLst>
                                          <p:attrName>style.visibility</p:attrName>
                                        </p:attrNameLst>
                                      </p:cBhvr>
                                      <p:to>
                                        <p:strVal val="visible"/>
                                      </p:to>
                                    </p:set>
                                    <p:animEffect filter="wipe(down)" transition="in">
                                      <p:cBhvr additive="repl">
                                        <p:cTn id="79" dur="500"/>
                                        <p:tgtEl>
                                          <p:spTgt spid="10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Book Antiqua"/>
            </a:endParaRPr>
          </a:p>
        </p:txBody>
      </p:sp>
      <p:pic>
        <p:nvPicPr>
          <p:cNvPr id="1094"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95"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93">
                                            <p:txEl>
                                              <p:pRg st="0" end="0"/>
                                            </p:txEl>
                                          </p:spTgt>
                                        </p:tgtEl>
                                        <p:attrNameLst>
                                          <p:attrName>style.visibility</p:attrName>
                                        </p:attrNameLst>
                                      </p:cBhvr>
                                      <p:to>
                                        <p:strVal val="visible"/>
                                      </p:to>
                                    </p:set>
                                    <p:animEffect filter="checkerboard(across)" transition="in">
                                      <p:cBhvr additive="repl">
                                        <p:cTn id="86" dur="500"/>
                                        <p:tgtEl>
                                          <p:spTgt spid="109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93">
                                            <p:txEl>
                                              <p:pRg st="2" end="2"/>
                                            </p:txEl>
                                          </p:spTgt>
                                        </p:tgtEl>
                                        <p:attrNameLst>
                                          <p:attrName>style.visibility</p:attrName>
                                        </p:attrNameLst>
                                      </p:cBhvr>
                                      <p:to>
                                        <p:strVal val="visible"/>
                                      </p:to>
                                    </p:set>
                                    <p:animEffect filter="checkerboard(across)" transition="in">
                                      <p:cBhvr additive="repl">
                                        <p:cTn id="91" dur="500"/>
                                        <p:tgtEl>
                                          <p:spTgt spid="109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3">
                                            <p:txEl>
                                              <p:pRg st="4" end="4"/>
                                            </p:txEl>
                                          </p:spTgt>
                                        </p:tgtEl>
                                        <p:attrNameLst>
                                          <p:attrName>style.visibility</p:attrName>
                                        </p:attrNameLst>
                                      </p:cBhvr>
                                      <p:to>
                                        <p:strVal val="visible"/>
                                      </p:to>
                                    </p:set>
                                    <p:animEffect filter="checkerboard(across)" transition="in">
                                      <p:cBhvr additive="repl">
                                        <p:cTn id="96" dur="500"/>
                                        <p:tgtEl>
                                          <p:spTgt spid="1093">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3">
                                            <p:txEl>
                                              <p:pRg st="6" end="6"/>
                                            </p:txEl>
                                          </p:spTgt>
                                        </p:tgtEl>
                                        <p:attrNameLst>
                                          <p:attrName>style.visibility</p:attrName>
                                        </p:attrNameLst>
                                      </p:cBhvr>
                                      <p:to>
                                        <p:strVal val="visible"/>
                                      </p:to>
                                    </p:set>
                                    <p:animEffect filter="checkerboard(across)" transition="in">
                                      <p:cBhvr additive="repl">
                                        <p:cTn id="101" dur="500"/>
                                        <p:tgtEl>
                                          <p:spTgt spid="1093">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93">
                                            <p:txEl>
                                              <p:pRg st="8" end="8"/>
                                            </p:txEl>
                                          </p:spTgt>
                                        </p:tgtEl>
                                        <p:attrNameLst>
                                          <p:attrName>style.visibility</p:attrName>
                                        </p:attrNameLst>
                                      </p:cBhvr>
                                      <p:to>
                                        <p:strVal val="visible"/>
                                      </p:to>
                                    </p:set>
                                    <p:animEffect filter="checkerboard(across)" transition="in">
                                      <p:cBhvr additive="repl">
                                        <p:cTn id="106" dur="500"/>
                                        <p:tgtEl>
                                          <p:spTgt spid="10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6" name="Picture 7" descr="05253"/>
          <p:cNvPicPr/>
          <p:nvPr/>
        </p:nvPicPr>
        <p:blipFill>
          <a:blip r:embed="rId1"/>
          <a:stretch/>
        </p:blipFill>
        <p:spPr>
          <a:xfrm>
            <a:off x="500040" y="1214280"/>
            <a:ext cx="2305080" cy="3457800"/>
          </a:xfrm>
          <a:prstGeom prst="rect">
            <a:avLst/>
          </a:prstGeom>
          <a:ln w="0">
            <a:noFill/>
          </a:ln>
        </p:spPr>
      </p:pic>
      <p:pic>
        <p:nvPicPr>
          <p:cNvPr id="1097"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98"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Book Antiqua"/>
            </a:endParaRPr>
          </a:p>
        </p:txBody>
      </p:sp>
      <p:sp>
        <p:nvSpPr>
          <p:cNvPr id="1099"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Book Antiqua"/>
            </a:endParaRPr>
          </a:p>
        </p:txBody>
      </p:sp>
      <p:pic>
        <p:nvPicPr>
          <p:cNvPr id="1100" name="Picture 11" descr="big_fish_swimming_md_wht.gif"/>
          <p:cNvPicPr/>
          <p:nvPr/>
        </p:nvPicPr>
        <p:blipFill>
          <a:blip r:embed="rId4"/>
          <a:stretch/>
        </p:blipFill>
        <p:spPr>
          <a:xfrm>
            <a:off x="4143240" y="6019920"/>
            <a:ext cx="895320" cy="838080"/>
          </a:xfrm>
          <a:prstGeom prst="rect">
            <a:avLst/>
          </a:prstGeom>
          <a:ln w="0">
            <a:noFill/>
          </a:ln>
        </p:spPr>
      </p:pic>
      <p:pic>
        <p:nvPicPr>
          <p:cNvPr id="1101" name="Picture 12" descr="fin_unwinding_md_clr.gif"/>
          <p:cNvPicPr/>
          <p:nvPr/>
        </p:nvPicPr>
        <p:blipFill>
          <a:blip r:embed="rId5"/>
          <a:stretch/>
        </p:blipFill>
        <p:spPr>
          <a:xfrm>
            <a:off x="4500720" y="928800"/>
            <a:ext cx="1333440" cy="1085760"/>
          </a:xfrm>
          <a:prstGeom prst="rect">
            <a:avLst/>
          </a:prstGeom>
          <a:ln w="0">
            <a:noFill/>
          </a:ln>
        </p:spPr>
      </p:pic>
      <p:pic>
        <p:nvPicPr>
          <p:cNvPr id="1102" name="Picture 13" descr="Diver_4.gif"/>
          <p:cNvPicPr/>
          <p:nvPr/>
        </p:nvPicPr>
        <p:blipFill>
          <a:blip r:embed="rId6"/>
          <a:stretch/>
        </p:blipFill>
        <p:spPr>
          <a:xfrm>
            <a:off x="7000920" y="1571760"/>
            <a:ext cx="676080" cy="952200"/>
          </a:xfrm>
          <a:prstGeom prst="rect">
            <a:avLst/>
          </a:prstGeom>
          <a:ln w="0">
            <a:noFill/>
          </a:ln>
        </p:spPr>
      </p:pic>
      <p:pic>
        <p:nvPicPr>
          <p:cNvPr id="1103" name="Picture 14" descr="angelfish.gif"/>
          <p:cNvPicPr/>
          <p:nvPr/>
        </p:nvPicPr>
        <p:blipFill>
          <a:blip r:embed="rId7"/>
          <a:stretch/>
        </p:blipFill>
        <p:spPr>
          <a:xfrm>
            <a:off x="6286680" y="6000840"/>
            <a:ext cx="952200" cy="628560"/>
          </a:xfrm>
          <a:prstGeom prst="rect">
            <a:avLst/>
          </a:prstGeom>
          <a:ln w="0">
            <a:noFill/>
          </a:ln>
        </p:spPr>
      </p:pic>
      <p:pic>
        <p:nvPicPr>
          <p:cNvPr id="1104" name="Picture 15" descr="images24.jpg"/>
          <p:cNvPicPr/>
          <p:nvPr/>
        </p:nvPicPr>
        <p:blipFill>
          <a:blip r:embed="rId8"/>
          <a:stretch/>
        </p:blipFill>
        <p:spPr>
          <a:xfrm>
            <a:off x="3000240" y="1143000"/>
            <a:ext cx="1333800" cy="885960"/>
          </a:xfrm>
          <a:prstGeom prst="rect">
            <a:avLst/>
          </a:prstGeom>
          <a:ln w="0">
            <a:noFill/>
          </a:ln>
        </p:spPr>
      </p:pic>
      <p:pic>
        <p:nvPicPr>
          <p:cNvPr id="1105" name="Picture 16" descr="images26.jpg"/>
          <p:cNvPicPr/>
          <p:nvPr/>
        </p:nvPicPr>
        <p:blipFill>
          <a:blip r:embed="rId9"/>
          <a:stretch/>
        </p:blipFill>
        <p:spPr>
          <a:xfrm>
            <a:off x="0" y="4854600"/>
            <a:ext cx="2071800" cy="2003400"/>
          </a:xfrm>
          <a:prstGeom prst="rect">
            <a:avLst/>
          </a:prstGeom>
          <a:ln w="0">
            <a:noFill/>
          </a:ln>
        </p:spPr>
      </p:pic>
      <p:pic>
        <p:nvPicPr>
          <p:cNvPr id="1106"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99">
                                            <p:txEl>
                                              <p:pRg st="0" end="0"/>
                                            </p:txEl>
                                          </p:spTgt>
                                        </p:tgtEl>
                                        <p:attrNameLst>
                                          <p:attrName>style.visibility</p:attrName>
                                        </p:attrNameLst>
                                      </p:cBhvr>
                                      <p:to>
                                        <p:strVal val="visible"/>
                                      </p:to>
                                    </p:set>
                                    <p:animEffect filter="diamond(in)" transition="in">
                                      <p:cBhvr additive="repl">
                                        <p:cTn id="113" dur="2000"/>
                                        <p:tgtEl>
                                          <p:spTgt spid="109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9">
                                            <p:txEl>
                                              <p:pRg st="2" end="2"/>
                                            </p:txEl>
                                          </p:spTgt>
                                        </p:tgtEl>
                                        <p:attrNameLst>
                                          <p:attrName>style.visibility</p:attrName>
                                        </p:attrNameLst>
                                      </p:cBhvr>
                                      <p:to>
                                        <p:strVal val="visible"/>
                                      </p:to>
                                    </p:set>
                                    <p:animEffect filter="checkerboard(across)" transition="in">
                                      <p:cBhvr additive="repl">
                                        <p:cTn id="118" dur="500"/>
                                        <p:tgtEl>
                                          <p:spTgt spid="1099">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99">
                                            <p:txEl>
                                              <p:pRg st="3" end="3"/>
                                            </p:txEl>
                                          </p:spTgt>
                                        </p:tgtEl>
                                        <p:attrNameLst>
                                          <p:attrName>style.visibility</p:attrName>
                                        </p:attrNameLst>
                                      </p:cBhvr>
                                      <p:to>
                                        <p:strVal val="visible"/>
                                      </p:to>
                                    </p:set>
                                    <p:animEffect filter="checkerboard(across)" transition="in">
                                      <p:cBhvr additive="repl">
                                        <p:cTn id="123" dur="500"/>
                                        <p:tgtEl>
                                          <p:spTgt spid="1099">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99">
                                            <p:txEl>
                                              <p:pRg st="4" end="4"/>
                                            </p:txEl>
                                          </p:spTgt>
                                        </p:tgtEl>
                                        <p:attrNameLst>
                                          <p:attrName>style.visibility</p:attrName>
                                        </p:attrNameLst>
                                      </p:cBhvr>
                                      <p:to>
                                        <p:strVal val="visible"/>
                                      </p:to>
                                    </p:set>
                                    <p:animEffect filter="checkerboard(across)" transition="in">
                                      <p:cBhvr additive="repl">
                                        <p:cTn id="128" dur="500"/>
                                        <p:tgtEl>
                                          <p:spTgt spid="1099">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99">
                                            <p:txEl>
                                              <p:pRg st="6" end="6"/>
                                            </p:txEl>
                                          </p:spTgt>
                                        </p:tgtEl>
                                        <p:attrNameLst>
                                          <p:attrName>style.visibility</p:attrName>
                                        </p:attrNameLst>
                                      </p:cBhvr>
                                      <p:to>
                                        <p:strVal val="visible"/>
                                      </p:to>
                                    </p:set>
                                    <p:animEffect filter="wipe(down)" transition="in">
                                      <p:cBhvr additive="repl">
                                        <p:cTn id="133" dur="500"/>
                                        <p:tgtEl>
                                          <p:spTgt spid="10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Lyn Clarkson</cp:lastModifiedBy>
  <dcterms:modified xsi:type="dcterms:W3CDTF">2007-09-12T00:00:00Z</dcterms:modified>
  <cp:revision>11</cp:revision>
  <dc:subject/>
  <dc:title>REPRODUCTIVE STRATEGIES FOR SURVIVAL</dc:title>
</cp:coreProperties>
</file>